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BEA-DFBE-4831-885D-E4E9D84F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E5F-3699-4E30-BA42-40DC6D0C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E98-A5C5-4700-A283-F3F65999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EF2-E2F5-49C5-BF38-08A1DE03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915B-7425-42E6-AF6D-37D7E97D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AAC2-5041-494E-B2E3-589E677A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820E-D958-4796-A34C-BAB2BAEF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D09E-4A42-4AF8-A2EF-34E94440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6C4D-3977-4AC2-A8B2-23C02F2D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01AA-6609-4750-BC36-6AFC79D9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330F-2333-4C1E-9D44-C2BA1CAD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819-7490-4DD6-87FA-62C3E58C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5179-ADD9-4AC2-9A4B-FCD13303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3D3C-C304-4185-85B1-1CC55007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2A57-EB86-4355-8F28-E5983159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F704-95A8-43E6-A71B-30CCFB2F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40BC-F77B-406B-8413-48CCF14D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3EC25-D9BC-410F-9671-AD8A671E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7E94-FB72-430C-B2C4-3015BF35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BE17-D3E3-41BD-856F-DC1C74C8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CA026-0CC3-4236-83FD-B7743656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1CF6-3D90-4F93-A7A1-D64F8A8B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C5C-E0DB-4AB3-9814-4D4AC840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E10D-A9E6-4755-8E59-72CE36ED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A657-D3B9-43F3-BDF5-854D966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C02FA-9751-4F35-A7C8-575E8EE1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AA36A-15BD-4C33-8D82-0351D6F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BBE09-1E7F-47BA-B3F8-57920CFB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2849-9F4E-42FD-827C-7D3F2A69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A7A4-F27B-4703-88B7-EC674C49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E124C-6627-49E0-BE33-C21AADA2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5A7C5-C8F7-4AED-AC69-AFD2C2A4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14E2-D519-4F39-891B-4AF70346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162-F7A4-4123-9732-F49278C5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B1E69-9170-47C4-B238-513E7AB7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B22F-E660-425A-BC73-B906C4B7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94693-663B-4D89-9F74-40D39B7E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4FD87-536F-4AB9-9533-6CB391F1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D08AD-7E7E-4799-9E88-665D326A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E3B83-B529-4760-BC21-C36E70F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D694-DD36-4E98-AD34-34AF1E44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15C94-8647-4D51-B324-429C470F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D158-D7DC-4C38-A4BB-AE98525B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13D2E-F1CD-46F6-A7CE-AFDCB62E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D3C-471B-47D8-B85C-52AEF091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67261-48DF-43F3-AE74-52A80A33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AF35-4910-4E4C-8D39-094FE75F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E7E02-31D6-4926-85BF-A2860880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002C6-3611-4A3F-B158-A2C15E01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E9C2B-5109-4198-A7CA-082F1155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84BF3-2B28-493A-9824-BDD8CA70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1822-000C-42E3-AEBD-165E2B68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C9F5B-F4B8-4902-9C8F-73E74D2C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591C-5A74-4502-8CBE-7F8EFC73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ABD0E-DFAC-4BE6-8C15-DEA23744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33B-3A85-4933-8F08-ABBB5036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46A6-4C3E-406A-8B71-442E1E7D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94C23-BC16-43D5-86B5-AF0B5842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B6B98-EE4C-4F5D-8232-3CC721E4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1F135-9323-4CFF-B711-1D7849B3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19694-124D-48C0-A16A-E3E861C8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7727A-CD6E-455F-B38D-99264FA8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088DD-36AD-432C-B6A1-8A5E5728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31CB5-451D-4190-8F98-E5A00D83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4349C-1798-46E9-B682-01175E8C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F4D24-5040-4614-A8F9-B747D83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CBC-BB38-4323-9FA5-A9DEEF7C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B8DD2-9EB3-49C3-8EF1-C1C53985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AEC12-8FE5-441D-BFC1-A7AC142F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D2472-7FA9-4B32-A9A4-AEA546B5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A6EF3-73D2-474D-815D-84DFA10F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FA1F1-22D7-4489-8FB6-4978410D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AA5FB-2439-4D09-8C1B-21C7261E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42B5F-B1B2-4AC9-B376-A8AB7387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F2DB0-BE7E-473E-AA4C-1F890071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78E1-9A89-4145-ABD4-9AB09E8F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BB0A-D15A-4E75-B8F2-D789DAB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DC2-2A33-439F-9CEA-8115B31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7684C-DE66-4E36-ABC6-ED00724F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002E1-833C-4E05-AA02-BA45B6F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10FB0-634D-4DB1-8885-62889EC3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4E159-C35F-4B97-A89C-2E4D5732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DBB61-C6F6-404E-BC7D-AD9BF807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AA9-0D0E-483C-8AB4-6851D319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ABEB5-8982-4241-8E51-A23F375FA92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9C4C0-32AB-4F1D-8914-A813E30FE348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06C2E-1034-4F13-AE62-B8964AC2EE1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863A1-A159-47D8-ABA8-3AD93BE7318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DFD7B-5F68-47FA-BCA4-78B0DB7A7D87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E97F9-C295-445A-93DC-D33D7778698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9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AB9B3-C06E-4BF7-B5CD-E45B4B4AEC1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74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8920" cy="1841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w.right2write.co.uk/Images/OCR_logo.gif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15080" y="5423040"/>
            <a:ext cx="2428920" cy="1434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Ghealthbenefit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933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52280" y="798480"/>
            <a:ext cx="601992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7dd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V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ss high cholest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scle hypertr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steopo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ength res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Fu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Stress releas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Moral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Disciplin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Communication / team wor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4724280" y="22860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Century Gothic"/>
              </a:rPr>
              <a:t>Nega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mmune system – open wind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njuries – cruci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arthrit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5008320" y="4711680"/>
            <a:ext cx="2837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b46d0"/>
                </a:solidFill>
                <a:latin typeface="Century Gothic"/>
              </a:rPr>
              <a:t>Band on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25680"/>
            <a:ext cx="8407440" cy="1494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www.right2write.co.uk/Images/OCR_logo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669000" y="5396040"/>
            <a:ext cx="2475000" cy="146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Gstrength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ed + acceler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fflining ball/tim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otwor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king the ba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-offering – changing dir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il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 ski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tting up a zo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TextBox 4" descr=""/>
          <p:cNvPicPr/>
          <p:nvPr/>
        </p:nvPicPr>
        <p:blipFill>
          <a:blip r:embed="rId11"/>
          <a:stretch/>
        </p:blipFill>
        <p:spPr>
          <a:xfrm>
            <a:off x="4730760" y="371520"/>
            <a:ext cx="3133800" cy="129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gweaknesse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48805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079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ac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atial awarene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ee play ball/catch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entr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nd eye co-ordin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ke line on C pa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or reaction tim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mina making easier to sco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cking ski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est pass no pow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TextBox 3" descr=""/>
          <p:cNvPicPr/>
          <p:nvPr/>
        </p:nvPicPr>
        <p:blipFill>
          <a:blip r:embed="rId12"/>
          <a:stretch/>
        </p:blipFill>
        <p:spPr>
          <a:xfrm>
            <a:off x="4809960" y="139680"/>
            <a:ext cx="3133800" cy="129240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 4" descr=""/>
          <p:cNvPicPr/>
          <p:nvPr/>
        </p:nvPicPr>
        <p:blipFill>
          <a:blip r:embed="rId13"/>
          <a:stretch/>
        </p:blipFill>
        <p:spPr>
          <a:xfrm>
            <a:off x="3090960" y="981000"/>
            <a:ext cx="615636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GActionplan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15228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Goal: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ower and consistency of chest p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Timescale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4w of 3 x 30 min session per we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Coaching Points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W.  Body weight, ball rotation, transfer of weight, extend arms,1 foot in front of 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Drill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 on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irs moving arms as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ing footwork dr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iving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x 2  10 p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 x 3  10 pa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ll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 + post testing/perce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TextBox 3" descr=""/>
          <p:cNvPicPr/>
          <p:nvPr/>
        </p:nvPicPr>
        <p:blipFill>
          <a:blip r:embed="rId6"/>
          <a:stretch/>
        </p:blipFill>
        <p:spPr>
          <a:xfrm>
            <a:off x="4919760" y="2882880"/>
            <a:ext cx="384012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localandnational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59840" cy="9334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79812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SFC competitions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ldham sports c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ldham Club – good coach/co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W high perf – advanced skills/abilities.  Onto England.  Long and short squad.  Inter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ance – car wash, bagging, spons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TextBox 3" descr=""/>
          <p:cNvPicPr/>
          <p:nvPr/>
        </p:nvPicPr>
        <p:blipFill>
          <a:blip r:embed="rId8"/>
          <a:stretch/>
        </p:blipFill>
        <p:spPr>
          <a:xfrm>
            <a:off x="4505400" y="4863960"/>
            <a:ext cx="380340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0:06:28Z</dcterms:created>
  <dc:creator>Scott  Chapman</dc:creator>
  <dc:description/>
  <dc:language>en-US</dc:language>
  <cp:lastModifiedBy>harria</cp:lastModifiedBy>
  <dcterms:modified xsi:type="dcterms:W3CDTF">2009-08-12T13:52:29Z</dcterms:modified>
  <cp:revision>13</cp:revision>
  <dc:subject/>
  <dc:title>G452 AS Practical EPIP</dc:title>
</cp:coreProperties>
</file>